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4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53C-E71A-4664-A306-898C8344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342-E978-4CAB-95E6-FFAFCA15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FFA-11BD-4BDD-83AF-409765F6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063-FB83-4734-8113-0B878763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99C-2B0F-418B-B7C3-C3D94162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959-DC25-41F6-80A4-33A6E7FB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AA0-4AC0-4130-A430-F25FB2E4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330-589C-4086-ACE3-AFAA57CF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AE9-3006-4083-AD46-8288D2DA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B05-ABD2-4312-AD8D-B9DB041D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A92-29B8-4C71-ABED-5E69DC84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764-E3E0-47B7-A35E-7BFE9AB4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9E69-956B-48CF-B0E7-B00100BF88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257400">
            <a:off x="3635280" y="52970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创作者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1409200">
            <a:off x="5724000" y="4436640"/>
            <a:ext cx="17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Black"/>
                <a:ea typeface="华文行楷"/>
              </a:rPr>
              <a:t>毕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0542200">
            <a:off x="2050920" y="9810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Welcome to our class 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 rot="1506600">
            <a:off x="931680" y="4776840"/>
            <a:ext cx="210960" cy="328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050200">
            <a:off x="1371600" y="3398760"/>
            <a:ext cx="500040" cy="7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875800">
            <a:off x="1733040" y="546120"/>
            <a:ext cx="7439040" cy="2874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67200">
            <a:off x="1143000" y="4191120"/>
            <a:ext cx="2286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589428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792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187280" y="1413000"/>
            <a:ext cx="6480360" cy="4537080"/>
            <a:chOff x="1187280" y="1413000"/>
            <a:chExt cx="6480360" cy="4537080"/>
          </a:xfrm>
        </p:grpSpPr>
        <p:sp>
          <p:nvSpPr>
            <p:cNvPr id="110" name=""/>
            <p:cNvSpPr/>
            <p:nvPr/>
          </p:nvSpPr>
          <p:spPr>
            <a:xfrm>
              <a:off x="1187280" y="141300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627280" y="2924280"/>
              <a:ext cx="3816360" cy="120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Salt Lake Desert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0"/>
            <a:ext cx="4356000" cy="2951280"/>
            <a:chOff x="0" y="0"/>
            <a:chExt cx="4356000" cy="2951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4356000" cy="2951280"/>
            </a:xfrm>
            <a:prstGeom prst="cloudCallout">
              <a:avLst>
                <a:gd name="adj1" fmla="val 6634"/>
                <a:gd name="adj2" fmla="val 6909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84360" y="1506600"/>
              <a:ext cx="27622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Lost their way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64000" y="4581360"/>
            <a:ext cx="5400720" cy="2159280"/>
            <a:chOff x="3564000" y="4581360"/>
            <a:chExt cx="5400720" cy="2159280"/>
          </a:xfrm>
        </p:grpSpPr>
        <p:sp>
          <p:nvSpPr>
            <p:cNvPr id="116" name=""/>
            <p:cNvSpPr/>
            <p:nvPr/>
          </p:nvSpPr>
          <p:spPr>
            <a:xfrm>
              <a:off x="3672000" y="4581360"/>
              <a:ext cx="5292720" cy="2159280"/>
            </a:xfrm>
            <a:prstGeom prst="wedgeRoundRectCallout">
              <a:avLst>
                <a:gd name="adj1" fmla="val -35032"/>
                <a:gd name="adj2" fmla="val 93115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cap="rnd" w="9360">
              <a:solidFill>
                <a:srgbClr val="ff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3564000" y="5168880"/>
              <a:ext cx="5400720" cy="124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without water ,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grass for animal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dry and barren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042920" y="0"/>
            <a:ext cx="6480360" cy="4537080"/>
            <a:chOff x="1042920" y="0"/>
            <a:chExt cx="6480360" cy="4537080"/>
          </a:xfrm>
        </p:grpSpPr>
        <p:sp>
          <p:nvSpPr>
            <p:cNvPr id="119" name=""/>
            <p:cNvSpPr/>
            <p:nvPr/>
          </p:nvSpPr>
          <p:spPr>
            <a:xfrm>
              <a:off x="1042920" y="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772000" y="1655640"/>
              <a:ext cx="2857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Death Valle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26920" y="3429000"/>
            <a:ext cx="7200720" cy="3095280"/>
            <a:chOff x="826920" y="3429000"/>
            <a:chExt cx="7200720" cy="3095280"/>
          </a:xfrm>
        </p:grpSpPr>
        <p:sp>
          <p:nvSpPr>
            <p:cNvPr id="122" name=""/>
            <p:cNvSpPr/>
            <p:nvPr/>
          </p:nvSpPr>
          <p:spPr>
            <a:xfrm>
              <a:off x="826920" y="3429000"/>
              <a:ext cx="7200720" cy="3095280"/>
            </a:xfrm>
            <a:prstGeom prst="wedgeRoundRectCallout">
              <a:avLst>
                <a:gd name="adj1" fmla="val -28893"/>
                <a:gd name="adj2" fmla="val 41583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535400" y="3917880"/>
              <a:ext cx="5806800" cy="20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ead animal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Abandoned thing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Such as …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6920" y="2349360"/>
            <a:ext cx="748836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What can you learn from the text?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411280" y="119700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kimm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03640" y="306864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108400">
            <a:off x="2271960" y="18756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578000">
            <a:off x="1304640" y="2565000"/>
            <a:ext cx="81900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578000">
            <a:off x="2556000" y="2492280"/>
            <a:ext cx="287280" cy="57636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340000" y="549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Language Studi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42100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1.Discuss any problems which    you meet with in the tex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292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2.Let’s discus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260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1.It was not easy to decide what to take and what to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leave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1970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ve behind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844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觉得我把信用卡落在餐馆里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27664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 ______ my credit card  __________at the restau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我就被远远抛在了后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22100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_______________ far beh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445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4954680"/>
            <a:ext cx="144720" cy="1498680"/>
          </a:xfrm>
          <a:custGeom>
            <a:avLst/>
            <a:gdLst>
              <a:gd name="textAreaLeft" fmla="*/ 92520 w 144720"/>
              <a:gd name="textAreaRight" fmla="*/ 145080 w 144720"/>
              <a:gd name="textAreaTop" fmla="*/ 38880 h 1498680"/>
              <a:gd name="textAreaBottom" fmla="*/ 1459800 h 14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4869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445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60213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l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55166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5084640"/>
            <a:ext cx="504720" cy="1584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198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5956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3800" y="224460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1600" y="289260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7440" y="4221000"/>
            <a:ext cx="349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as soon 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60948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.The animals dragged their legs,too weak to pull their 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Times New Roman"/>
              </a:rPr>
              <a:t>bu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0" y="18288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1905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担；责任；重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)Eleph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8360" y="2362320"/>
            <a:ext cx="21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urd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2004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The old man doesn’t want to _______ ____   __________ to his children and always to do what he can by him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581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      a      bu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6720" y="52261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40720" y="4762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某人自已肩负（重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34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urden sb /oneself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1952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f I were you , I wouldn’t ________ ______ _____ other people’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189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是我，我绝不像你那样为别人的问题而操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98952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想让我的问题困扰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72140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don’t want to ________ _____ _______ my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4538520"/>
            <a:ext cx="41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 you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4080" y="266688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33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For many weeks we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had been accustomed to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seeing horses and oxen suffering from heat, thirst and star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16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e accustomed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06064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565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accustom oneself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284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习惯这么早起进行晨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378936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am not accustomed to __________ ______so early to do morning exerc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560" y="55468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It’ll take me some tim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________ ____ th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3573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getting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501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需要花很时间来适应这些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3680" y="6095880"/>
            <a:ext cx="47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accustom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55640" y="40179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On hearing the bad news, he got up quickly, _______ the lunch unfin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3320" y="5010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7280" y="50817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586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to le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5586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886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5800" y="4292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342900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557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1.We take our skin  for granted until it is burned ______re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6040" y="2705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39640" y="270504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B. with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24080" y="3354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68440" y="3354480"/>
            <a:ext cx="15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8129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627280" y="582480"/>
            <a:ext cx="3191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RACTISE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916440" cy="331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4508640"/>
            <a:ext cx="21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oday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3280" y="1197000"/>
            <a:ext cx="40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ngLiU"/>
              </a:rPr>
              <a:t>modernized</a:t>
            </a:r>
            <a:endParaRPr b="1" lang="en-US" sz="4800" spc="1" strike="noStrike">
              <a:ln w="1908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ngLiU"/>
              <a:ea typeface="MingLiU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3743280" cy="388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8360" y="256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co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05264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1.The little cart is squeaking (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吱吱响）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 the heavy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060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128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b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2128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1341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78136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When considering how to settle the problem,the most important factor—weather, he had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437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450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084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5084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3573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32000" y="62064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2492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Lucida Sans Unicode"/>
              </a:rPr>
              <a:t>1.Finish  Language stu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357336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2.Finsh the gramm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 rot="21114600">
            <a:off x="2743200" y="1905120"/>
            <a:ext cx="335592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Goodbye 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24000" y="620640"/>
            <a:ext cx="6624720" cy="5532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1371600" y="2438280"/>
            <a:ext cx="45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n the 1840's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1752840" cy="335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435600">
            <a:off x="1763640" y="2060280"/>
            <a:ext cx="4797360" cy="225360"/>
          </a:xfrm>
          <a:prstGeom prst="leftArrow">
            <a:avLst>
              <a:gd name="adj1" fmla="val 50000"/>
              <a:gd name="adj2" fmla="val 53218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284640"/>
            <a:ext cx="4572000" cy="228600"/>
          </a:xfrm>
          <a:prstGeom prst="leftArrow">
            <a:avLst>
              <a:gd name="adj1" fmla="val 50000"/>
              <a:gd name="adj2" fmla="val 50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7280" y="1890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1720" y="620640"/>
            <a:ext cx="363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otum"/>
                <a:ea typeface="Dotum"/>
              </a:rPr>
              <a:t>GOING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4751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READ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52880" y="312408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08400">
            <a:off x="2365920" y="30348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578000">
            <a:off x="1225080" y="2587320"/>
            <a:ext cx="90504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578000">
            <a:off x="2457360" y="2572920"/>
            <a:ext cx="381240" cy="52884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amel" descr=""/>
          <p:cNvPicPr/>
          <p:nvPr/>
        </p:nvPicPr>
        <p:blipFill>
          <a:blip r:embed="rId5"/>
          <a:stretch/>
        </p:blipFill>
        <p:spPr>
          <a:xfrm>
            <a:off x="1143000" y="26668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Camel" descr=""/>
          <p:cNvPicPr/>
          <p:nvPr/>
        </p:nvPicPr>
        <p:blipFill>
          <a:blip r:embed="rId6"/>
          <a:stretch/>
        </p:blipFill>
        <p:spPr>
          <a:xfrm>
            <a:off x="1600200" y="2971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Camel" descr=""/>
          <p:cNvPicPr/>
          <p:nvPr/>
        </p:nvPicPr>
        <p:blipFill>
          <a:blip r:embed="rId7"/>
          <a:stretch/>
        </p:blipFill>
        <p:spPr>
          <a:xfrm>
            <a:off x="2286000" y="231444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cann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8000" y="549360"/>
            <a:ext cx="532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"/>
          <p:cNvSpPr/>
          <p:nvPr/>
        </p:nvSpPr>
        <p:spPr>
          <a:xfrm>
            <a:off x="-108000" y="1800360"/>
            <a:ext cx="9144000" cy="5157720"/>
          </a:xfrm>
          <a:prstGeom prst="cloudCallout">
            <a:avLst>
              <a:gd name="adj1" fmla="val 32657"/>
              <a:gd name="adj2" fmla="val -37689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1800" y="1827360"/>
            <a:ext cx="7972560" cy="50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Frontier ,meeting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lace for people moving to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the west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95640" y="141300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5280" y="1989000"/>
            <a:ext cx="5508360" cy="3645000"/>
            <a:chOff x="1835280" y="1989000"/>
            <a:chExt cx="5508360" cy="3645000"/>
          </a:xfrm>
        </p:grpSpPr>
        <p:sp>
          <p:nvSpPr>
            <p:cNvPr id="106" name=""/>
            <p:cNvSpPr/>
            <p:nvPr/>
          </p:nvSpPr>
          <p:spPr>
            <a:xfrm>
              <a:off x="1835280" y="1989000"/>
              <a:ext cx="5508360" cy="3645000"/>
            </a:xfrm>
            <a:prstGeom prst="irregularSeal2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203280" y="3068640"/>
              <a:ext cx="2376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-方正超大字符集"/>
                </a:rPr>
                <a:t>beautiful</a:t>
              </a:r>
              <a:endParaRPr b="1" lang="en-US" sz="24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-方正超大字符集"/>
                <a:ea typeface="宋体-方正超大字符集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490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11:02:37Z</dcterms:created>
  <dc:creator>Bisheng</dc:creator>
  <dc:description/>
  <dc:language>en-US</dc:language>
  <cp:lastModifiedBy>Guest</cp:lastModifiedBy>
  <dcterms:modified xsi:type="dcterms:W3CDTF">2005-09-24T12:59:54Z</dcterms:modified>
  <cp:revision>95</cp:revision>
  <dc:subject/>
  <dc:title>PowerPoint 演示文稿</dc:title>
</cp:coreProperties>
</file>